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6010-238B-4BA6-8C62-EACE761E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296E-0D59-461C-A13C-0CB0CBB2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3899-51DF-47EC-A6D2-E7269314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BC49-01C4-4CAD-A776-F68589B0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7E63-E55F-45ED-9817-5F62EAC2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3098-03AF-4DA9-A51D-3DD0266A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0BA2-1C87-471C-9208-A72BAFC9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068E-7A34-40AD-9CB5-0017DB7D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D44F-E384-4A75-8B47-D39D519C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16C3-8D5C-4C53-9372-1F1489F7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A00B-E3C4-47D7-87CB-D85CA084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CB59-E189-444F-9575-EB9100DC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1E62-1A7E-4599-A902-711791C4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F527-7759-4E00-A851-4AA14376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C726-DD17-4AA7-AAC9-DFCAC47E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0EA7-7C04-4AE3-BDBA-F0E3736A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ADDA-E26E-4411-8557-FE89325D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C754-B999-4344-9184-8FCF0BB8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39FE-A343-4AAF-9FA5-659A18F1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410D-6B0F-4BF2-9F28-EBD5A9C3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CEA7-499D-4FB0-8E76-977D273C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5E4F-038E-465F-8DF1-B64A8FE2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B904-4DDA-42B5-99AE-022EFCF2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9731-63D1-468D-BE00-5C304917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7CAF-E948-453F-9057-0B816129393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2A36-CFBE-4D90-A6DC-E75BB2E397D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Meiryo"/>
              </a:rPr>
              <a:t>Waheed bayyoo</a:t>
            </a:r>
            <a:br>
              <a:rPr sz="4800"/>
            </a:b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19814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imes New Roman"/>
              </a:rPr>
              <a:t>Country         :: Pakist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imes New Roman"/>
              </a:rPr>
              <a:t>Me in class    ::</a:t>
            </a: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 9th art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00"/>
                </a:solidFill>
                <a:latin typeface="Times New Roman"/>
              </a:rPr>
              <a:t>My interest</a:t>
            </a: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    :: volyball, indian mus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imes New Roman"/>
              </a:rPr>
              <a:t>My favourite subject</a:t>
            </a: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:: histor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4724280"/>
            <a:ext cx="6858000" cy="1015920"/>
          </a:xfrm>
          <a:prstGeom prst="rect">
            <a:avLst/>
          </a:prstGeom>
          <a:solidFill>
            <a:srgbClr val="ffcc00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roud to be the part of Asia Europe Class Networ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nd thank you for giving me a chance in HisBulPi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akistan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4511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0:55:33Z</dcterms:created>
  <dc:creator>pasha</dc:creator>
  <dc:description/>
  <dc:language>en-US</dc:language>
  <cp:lastModifiedBy>Sumi</cp:lastModifiedBy>
  <dcterms:modified xsi:type="dcterms:W3CDTF">2010-01-26T23:53:04Z</dcterms:modified>
  <cp:revision>18</cp:revision>
  <dc:subject/>
  <dc:title>MR. HAROON </dc:title>
</cp:coreProperties>
</file>